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78F-4A07-4DB5-B355-35AEFA6A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484-975B-405A-B4F0-8386153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14D1-1BF1-40D7-AD52-06F3FB5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216C-4233-449F-B327-E538B1B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1B52E-8AE3-4261-A80D-DC6D1B5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0DEF-C262-46C8-B5D9-5EAF4AD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7487-BA00-4EA4-BB4E-846ECE28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01EB7-91B5-40E6-8F8E-43813D2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E02F-D12B-4318-906B-43410E4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8187F-88DB-4D12-9D9A-46F05C9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4B0AF-9368-4DDD-9CC2-5759C46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EA96F-7803-47C8-917F-28DE1988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A8E-5041-4814-9C41-1892806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1CCA4-7B4E-4E32-B8A6-0B18EE21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3DE8A-9D92-49D2-B568-575065E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CA948-A989-41E2-B5FB-BD72A6FA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FAC32D-56CE-4355-9C7B-8334268D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9AD24-E947-48A4-98B0-C2CE38F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2CFDAE-7508-467A-86B6-153F309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7119E-F979-4020-9BE3-4FBF4E0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B154D-50C0-442E-809C-C312658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8F5E9E-E446-4840-929B-98F7787A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B98F63-6644-4D9E-B971-2B7D74CE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3B7-AAF0-41BD-982B-68C799BD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B54AE-CB1E-4AEA-AB84-739AC524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FFDD0-C66B-433F-B5A6-924E7F33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F900-CD94-4F63-AE9B-8143B2A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74D57-6F54-4FE4-9AC1-8738F48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CBFE7-FFAF-4F1F-9D02-B5F6B1B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0277-9946-41F9-BF6D-9E1A74B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620FB-D9AD-49DF-B30F-0E8F948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F0C3B-7290-4A0C-B66C-AE202C4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40B8B-F755-405C-A1A4-B9A1F82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D21EC-1C66-4C00-9B93-E006EDC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94D-0784-4B71-99E2-E218AA4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25F9-7383-4437-8BBE-2EA3D87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23EE-D84A-4A3B-96B5-4349B999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A6C83-8410-4FD7-B62E-D92D32FF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B3E50-191A-499C-A604-B35A4CBB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D71F-6995-4FF1-97D2-A215EF8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09AEE-1DE0-4859-B278-6794F8BA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843F5-1CEF-48F5-AC2E-9103DBFE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9BD1E-DDA9-40AC-B642-8B10334D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5D840-CA05-421C-B3AE-9BF1546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4CE4B-3432-4321-8A55-2A819C8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09BA-01AB-4102-97B8-20BA2AE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52FC-7364-453D-9C89-DAF35C9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1F165-F020-4B14-8897-357C88D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22E93-E3C9-44CC-9E42-E9DFE272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44CD8-C144-49B9-BCC7-1470A99A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E9E3D-A30C-4208-8BFE-3883CE38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B37B-0A55-4BBC-AA09-A03F6339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8354-B930-4C6D-A4E7-C240E590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36B-662E-46D8-ACB3-1D125D1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847-600C-45CE-8800-DBA797E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C08-2B93-4D40-8061-291ABA5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349-556D-4209-8AB7-A8B55FE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4D7-9FD9-46BB-89AB-1CA1107F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EAAA-F139-4162-8F01-89D1726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BFEB-3AB9-4F04-A022-FB7ACA06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C70-6541-47C7-A06D-7912D87F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B011-651B-46CE-ACEE-CCF5271E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F762D-2835-4A21-A682-FA094706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6A5ED-CC30-4D24-B3D6-B81B2F0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51FFC-6FEE-4D7D-A63E-6CEA554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4384F-0AF6-4B49-AE37-07DBB89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ACE1E-1729-43C3-A02C-D8E12FF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AB3-9A3E-497C-BDF5-C50BA50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FBAF-F9BE-4ABB-B5E5-9619CD7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FE1A5-DB60-4BFC-8CA8-4F07D7F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8C35-01F4-410D-8CF7-25C82FA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E7E6D-AF95-469D-B0DF-3046CF3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A2866-5DAF-45A2-8D36-418D0E8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9B455-538F-4928-B943-5A362C20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2B859-AE0A-4598-B548-0799E8A9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7C9B-D44D-4924-BFDB-97476A1D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0119-FDA1-4ACF-A4AF-4CBCAD5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7B59-746B-46C5-91F7-05E7E62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63C-670D-43AA-BFD2-14CD95D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887B-A1C7-4E6F-9842-71DEC6F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806D-376B-42FC-B7BA-E4C16824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8F66-C88B-457E-A12B-39FC9E5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03D6-01F4-406C-A356-D87521D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1D9C-0FC9-42C6-B3EA-79EE0FB5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6998-4DFA-466F-99A0-5E4FCCE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D333-7A0C-4132-985F-BE3E1EB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522A-5B5B-4378-9E4D-E6A510F6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C7C6-D383-4265-94A1-F27CB9C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79C8-6FFD-44F5-8164-26EE889B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BF1-B56B-493E-9C2C-60E18BB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AA22-CBB8-4E5D-A40D-D29BF01C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025E-20B4-43B6-AC5E-9439884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2419A-3F28-4C63-915F-CBACB5BD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797D-DC2A-4B3A-A420-8FFF8D1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9592-1D00-4339-B24A-26F8D09B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C142-FD0A-4BF7-BDBA-ED922C0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8AC5-46B2-4CF8-818E-0EB60B6D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407C-D8D1-4592-B507-1A3522C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5902-CE1F-4519-8B0D-5648936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486F-64B4-4905-AEA8-150969C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F6E-9D35-48C5-AA67-DF7AF26D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BEF7-9E37-42B4-B901-7D25C821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060A-2C7B-4286-A08F-6F6C0F4F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3EEA-1889-4122-BF36-98C0FA81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A993-CF32-4BDF-9549-A5656E1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EB0C1-9D1D-4A96-BB34-3C2BE85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F18DC-0AAF-4241-9F7A-A3E773CF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299B-1331-4EF6-9519-69B6DF2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97DB-FB6F-4C31-8A14-20FF20D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33F0-9E59-46A5-8033-F92D87F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0D4D-C636-43EF-8937-C5B268E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A13-CBA6-40A0-B39D-1B85FFF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DF634-7D46-4D7B-98AD-337BD1D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D0A2-A461-481E-A703-A1EE3BC2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AA4D-1564-41E9-B653-E951FC1A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B0ECE-18D3-41FF-A936-B52CD63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AF5D4-8FB0-4A5F-8468-5E4FBB8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B3F75-D68B-4B29-B843-84A18173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E03F2-7B28-46D9-9B57-CFC2C3F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426E0-359C-4401-8F42-65D1BA3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25EFE-3386-4247-8512-81CFC929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E93E0-DCEF-44A8-A4FC-75AB0C2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16E-A7D7-40FC-89BD-6D41618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15127-CB1A-4CE1-9224-2C743A1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F416F-6470-4F1A-9FCD-0B586CEA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4A27F-93EA-435C-B9EE-5C32998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B9952-15E0-4BED-82BD-DBC61B5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0EE3C-EED6-44E5-B440-037E7925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873A-2CE1-4311-8F9E-A4AE2F0B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CFF1-B9C7-4C06-B778-0E679F2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AA77-F120-4068-8D35-A0EDA8A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AAC44-B50F-49EF-947D-4F9876E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901E-EA9F-4A3D-B7BA-6FDECE71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50C-342B-4415-9522-AD6A544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EAD86-025F-4D9C-876C-AAA35C06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E6C7B-9FD8-4414-9F36-B1FF6E1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5A83-F1D5-4225-A649-95668FC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C9163-BB6D-4BBA-8641-F7F5192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DC4B-677C-4AF2-AF32-256924D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DD784-3619-4A36-BD17-823DE120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5098B-8346-47CE-83F6-A08024F9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3E0FD-1AE2-4EB6-B438-54F3A0F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7F7B8-547E-42FA-A00C-B5BD97C6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7288E-52C3-409A-962A-14602D7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878-19B9-4826-A67B-8866F1D8B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5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5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6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DC14-DB2F-4159-A6B9-1126E40B64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1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AF92-655F-4058-B133-CE3FB4069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6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42B-6071-4093-9BA0-6172C671C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ECD5-330A-47D2-840C-5EA3BA23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A44-4457-4303-B297-A8966843F5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92CC-5AC5-4291-98AF-0267BD3C7F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A49-AC48-4D13-8D8F-1BA3DD40257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3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04C-0E57-4B1E-A058-F4CABB1581C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B2C-1FB3-4E70-8989-04689387F5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C3B8-6AFB-4714-A883-409C5AC91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9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0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C187-C41C-4117-8768-FA543ABC6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1219320" y="6094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Ropa Para Las Estacione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143000" y="4419720"/>
            <a:ext cx="72388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Joy Maswoswe and Marissa Rizzol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Invier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724280" y="1752120"/>
            <a:ext cx="3733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ca llev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ado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haque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zul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l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gra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ls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gie, y los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ntal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g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25909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0040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  <a:ea typeface="Arial"/>
              </a:rPr>
              <a:t>El Onto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da llev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fan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ja.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mi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lanca, gris, y negra.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gra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intu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o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r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Y l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ot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is y blan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265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228240" y="518148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amila lleva El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vestido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morado, y lo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zapato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egi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600200" y="152280"/>
            <a:ext cx="5715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2fa0e"/>
                    </a:gs>
                    <a:gs pos="100000">
                      <a:srgbClr val="4a25e7"/>
                    </a:gs>
                  </a:gsLst>
                  <a:lin ang="5400000"/>
                </a:gradFill>
                <a:latin typeface="Arial Black"/>
              </a:rPr>
              <a:t>La Primver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2fa0e"/>
                  </a:gs>
                  <a:gs pos="100000">
                    <a:srgbClr val="4a25e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993680" cy="3429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540160" cy="304812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 rot="409200">
            <a:off x="4876560" y="4952520"/>
            <a:ext cx="3124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la lleva la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blanca. La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chaqueta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sado y lo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pantalone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4647960"/>
            <a:ext cx="27432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blo lleva la camisa amarillo. Y 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raje de bañ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lanco y azu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523880" y="304920"/>
            <a:ext cx="62485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9933ff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Times New Roman"/>
              </a:rPr>
              <a:t>El Verano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9933ff"/>
                  </a:gs>
                  <a:gs pos="100000">
                    <a:srgbClr val="33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436840" cy="2743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098440" cy="27525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 rot="620400">
            <a:off x="5562360" y="464796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i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ojo y blanco. Y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zul, rosado, y 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213372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cesorio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324160" cy="19717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 rot="21038400">
            <a:off x="380880" y="37335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ulser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erde, amarilla, y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21105000">
            <a:off x="3428640" y="152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orado, y az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6553080" y="1523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 rot="254400">
            <a:off x="6477120" y="3657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rete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rde, y ro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4"/>
          <a:stretch/>
        </p:blipFill>
        <p:spPr>
          <a:xfrm rot="21394800">
            <a:off x="91440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 rot="655200">
            <a:off x="3046680" y="486036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nillo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osado, plateado, y blan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5"/>
          <a:stretch/>
        </p:blipFill>
        <p:spPr>
          <a:xfrm>
            <a:off x="5029200" y="4648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 rot="20973000">
            <a:off x="7162920" y="480024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bols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rrón, begie, y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El Traje de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703160" cy="2286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3"/>
          <a:stretch/>
        </p:blipFill>
        <p:spPr>
          <a:xfrm>
            <a:off x="6553080" y="2057400"/>
            <a:ext cx="1854360" cy="23144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 rot="391200">
            <a:off x="304560" y="4952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st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or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21018600">
            <a:off x="3733920" y="5029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abell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erde y blan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452400">
            <a:off x="6934320" y="5105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onito y eleg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4:24Z</dcterms:created>
  <dc:creator>rizzolomar</dc:creator>
  <dc:description/>
  <dc:language>en-US</dc:language>
  <cp:lastModifiedBy>rizzolomar</cp:lastModifiedBy>
  <dcterms:modified xsi:type="dcterms:W3CDTF">2011-12-14T17:02:23Z</dcterms:modified>
  <cp:revision>26</cp:revision>
  <dc:subject/>
  <dc:title>Slide 1</dc:title>
</cp:coreProperties>
</file>